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6B5-7E43-4DE1-9CA9-0CD6ACB1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07A-68E8-4334-B2B2-1F0277D9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285-93AA-4F80-B256-A8F66D71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B7D-C669-4841-8943-9150EC75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96FF-D757-4906-AECC-0A2319A4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A09F-19B8-487F-B201-8FAB3BF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5011-6F30-449C-ABA7-902270E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DDA3-3209-455D-A83D-6B56294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F66C-DF25-40A3-9455-FB7E28D8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FD30-D7DD-4FEC-BEAE-505CDC6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EB20-7B47-493A-8466-8082B335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A6D-EB83-4111-9393-EE265ACD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3726-75E1-4808-84C9-2589216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CB23-2847-47B5-A7DF-7491B849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2296-E8E3-4F48-8388-4357287C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72EB-3CB3-4CEE-AC47-77926362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6632-0EC5-4994-A199-861CC3A8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D04-6AE4-4111-A431-52008FA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C0B-ACC9-4DD3-9D25-1E25B445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755-CC21-4927-9F6B-EAC4E425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08E-4B03-4D68-BE5D-C241B52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2FA-6AA3-457F-8EB5-79F184E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8C9-1196-41F8-B431-AF4AC4ED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0E6-BC3F-4677-9A0E-0D003D0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09AF-2E7E-4215-8950-3854BBD8A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3ECC-280E-4585-B18F-8C43D10FE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600560" y="838080"/>
            <a:ext cx="76201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“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Gift of the Magi”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by O. Hen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686800" y="6324120"/>
            <a:ext cx="457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14316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5040" y="2438280"/>
            <a:ext cx="5272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 we are focusing on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e 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recognize the events in the story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x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onfli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ising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li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Falling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080" y="228600"/>
            <a:ext cx="4988880" cy="581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 September 22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8240" y="5268960"/>
            <a:ext cx="879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and analyze the conventions of the short s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ze the concepts of "truth" and "imagination" in litera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how ideas, issues, and/or subjects developed in specific sh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ies apply to your own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: Also called story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, scheme, or main story of a literary or dramatic work, as a play, novel,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hort sto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ocabulary Words for “The Gift of the Magi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gates (pg.247)- urges on; stir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eciate (pg. 248)- reduce in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eet (250)- Careful about what one says or do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Make up your own sentence with these new vocabulary words in the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uesday September 2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*Did you remember 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b your bell wor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683160" cy="510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5600" y="1244520"/>
            <a:ext cx="330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he Scarlet Ibi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by James 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22860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dnesday September 24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46000" y="152388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d you rememb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grab your bell work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68840" y="2362320"/>
            <a:ext cx="54432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Today we are focusing o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INT OF VIEW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literatur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ytelling,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int of vie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ted experience of the narrator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that of the auth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33:34Z</dcterms:created>
  <dc:creator>Center School District</dc:creator>
  <dc:description/>
  <dc:language>en-US</dc:language>
  <cp:lastModifiedBy>Admin</cp:lastModifiedBy>
  <dcterms:modified xsi:type="dcterms:W3CDTF">2008-08-27T20:07:47Z</dcterms:modified>
  <cp:revision>13</cp:revision>
  <dc:subject/>
  <dc:title> The Gift of the Magi  by O. Henry</dc:title>
</cp:coreProperties>
</file>